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3E3BE-596D-4D6C-BC16-E71F3EEB15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FC7B9-E773-4CB1-BD82-EB672E8D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0D5E7D-F2C3-44AF-886F-48C5B60A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DB3C5F-A075-40C0-8E13-1092F67EC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905815-F4DE-46FC-9EE4-E9F965F98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297230-06F4-45EE-BD50-F68F7538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7E8C1D-A295-40F7-BC5F-06BC44B4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EC570A-3538-4D57-B850-B21B5A1E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C5EC4F-117D-476F-935D-474519B7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405372-1DE1-409A-B10F-2FF9CB5C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200069-D218-4307-A345-5F32B0EB36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85BA4-B816-4E76-AF65-35D08A534C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348C4-D2E2-43A3-9CEB-886FFB2F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E2BAF-3E2D-42E5-B731-05C6D487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CF434-B0E0-47C3-AE31-31AF9B11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DF94C-F667-4290-9890-033E8312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03507-AD5F-4A74-B86C-394135048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FC850-44C0-4683-A920-A413BC9E3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FCDD6-54C7-4B85-918F-9FC38368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31DAB-2F15-480A-8E70-457B63EB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240AE-8E03-451A-A96B-125A8B18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3172C-4AFC-4257-9491-E49EEC4F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BD8D2-0AE8-4215-8DDC-D1F93029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FCEA6-DB2F-4C9C-8A57-0863ACE503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389C5-EFE5-42AF-B047-1E99B2E31C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3D2129-9E6E-4B3F-9FF2-567B604526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5EEF76-0559-48DF-BB7E-1F413915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E0BF31-0534-452C-A9E8-0BA9C0B1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E64F88-D293-4EB8-9420-09F78350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2AB9EB-36FC-4489-A480-D6C8D59E9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3CDCF3-B1E6-4C78-B077-EBA334089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BDE61B-EDFD-4655-A8C6-9A659159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2FE95E-07B3-46F0-BA5E-84E71DA7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ACA2DD-C092-4B13-9B00-E4A99E05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E5C8D-5050-4291-A5DD-CFDBE7A47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6C1525-91AD-47E6-A709-89923B28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70FE24-F105-484B-BA87-C7CD8DE8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7E09D3-43CB-4075-A7DF-49BE83FB7F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AD2DF2-9073-4C28-B8AC-14C7ABBBC6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81DA25-74C1-42F6-81A9-82B6E0BC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90D255-7E8D-4251-83C7-2AF8E7A5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7A4345-0EDE-4054-9177-B0205550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55BD4A-C998-498C-BA3C-9BC36C88B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EB0EE1-0323-450A-95CD-21DFE7D85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676067-A61A-479E-90D9-9B536D04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2D2E9-B281-4AF6-9171-B97B4595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9F3492-DFF6-4223-B231-0D254164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3F1CA9-5177-4E87-B389-71B0F2BD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82EFA6-ABE1-423E-8694-76203266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CCC781-BC00-4491-9E34-F7F363CA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4629B6-4044-4F71-97C7-4BC48216F8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0667C6-37D8-4D4E-BC5C-FBEEEF73AF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8BC963-055E-45EF-8626-F7B7EC79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137B4-16F2-458F-B4E8-97E03A47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93A10-6681-410E-BE48-3F6F8350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4DB8D5-F536-432B-A4B5-79EAD1345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A3135-DBE9-45D5-B38D-60C6A051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3D3CA4-B4A7-4B84-9BED-CF9409DF0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AFDACF-0BA4-4D93-A544-557BCAD9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55CCE-BD05-4E45-8E18-7B13BB92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F7E5B-382E-44BF-AF48-1314D28D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4C8055-924E-47CA-A5EA-FC27835C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50041E-C51D-494F-8176-19D85DD3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6CA90-A975-49C7-9929-281B20E0CD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754D9-EB58-4B26-A381-E1FEB3C27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6088E0-2939-4D21-BCD0-0B0A5520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0285B-3707-4E21-96B0-49579DBC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C04C65-B87D-44E5-ACE1-6C4C19E3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F4455-2D67-4518-8206-30F17BC9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698574-A616-4928-B5A5-44272CA0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A8C7D1-C578-4F92-A117-CD22A3ED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FD0D73-7165-4B3B-AFCE-B29E6F98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0AD0BC-2478-4809-A2F8-E6D8285D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7A7A9A-1F20-4BC7-896F-9DA23599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C06FB0-3C16-493F-B6A0-3B734F51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C4EE6D-A954-4C02-8F53-2A07C2BC2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408543-0082-4584-A94B-7D7912F43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DB112-69D3-4DD6-8DE9-90F3EC567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EF841-A8DE-4507-8212-AE875CA0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55A8B-5338-46FF-87E6-95292D73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32914-1BA5-411E-BAB1-11672674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0DD9A-AB47-41A9-A8B0-75BD8A4D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2DBA0-A209-42C8-9E6C-64D2F601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98A8C-67B2-4CAC-8FBF-463B61FA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EDEB0-4DA9-4D50-BC24-0F2E4597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598BB3-148D-4659-B08B-9B4FFA6F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02AD3D-FE1D-4089-8083-4F9DB1BA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41B4D-E007-4CF8-9BA4-DDCD436D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75F07-63E8-4D03-A0CE-E56A7B99E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CBC13-A214-4AAF-96B7-D1D9703F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E7F36-3B98-4A4A-9E25-D3833C42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3DF13A-289B-4F7E-A296-EEDD9AC5D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B91150-FC92-4CE4-B69E-74DD585F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888028-3ADC-4EEA-A419-CBDAAAFB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1831E1-4670-41F0-8E0C-F3FCE589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CB8C1D-2787-48D2-ACC1-C58D3C1C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AA6349-17D2-41A9-8A93-9188F4ED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199557-2C9D-4183-B928-3A239A27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957A2F-EBC7-4785-B415-DD3E00A4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C4E488-95ED-497A-99B0-CC2CBFF6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83736-2694-47C2-BF8B-20DA4EA9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0BA573-B863-4CE7-8332-AF0EB0BA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2B7D53-EA42-461F-BD68-17F13C49C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173AD1-8918-49AC-8413-76239BCB7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F8D7E0-A1D4-46C9-A386-C599910C6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5E1057-E99E-4E23-BF1C-0B3EAFA0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D4F58F-E8A9-48E8-80F5-81A111E0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641204-57ED-42D7-89AC-7B2742A6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3A54E5-0585-4626-9A93-9CD25238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E8A2C3-F7E4-4B70-B40A-9369B378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31E74C-B073-4100-8EFB-A043604A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A8088-7333-41F2-BAEC-C2509F8E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31BC0-3ADB-4F4E-954D-E1A4CEA6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CCB069-6E70-4840-9396-1685EAA0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C2F435-C700-44A6-981A-0500423B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B82966-FFE3-45FB-A622-1AD93B7D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CE0D7A-5F8C-4599-A799-E2D71403D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E0D2AC-0163-48C3-A7F1-EE38C0233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53FB81-5AE4-42F5-B6FD-173A6F8B4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EBE96B-8422-4109-B7DA-9BB1D18F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3B02F5-1B6F-4400-AE9A-E3A5684A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76E66C-A31A-4C3F-9A90-31AB5137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6C950F-A434-424A-804F-3F5439F6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DDF8D-6DA1-4B4D-AFD9-CDF8C0C8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1BF118-9C70-4EFE-9336-D7B35C21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7A5986-1275-4D99-8EE7-A940B8E9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62E6DB-375D-4376-A67F-F4F07B55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F48E99-3476-477A-8423-2A15D027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627536-7EF6-47F5-BB2C-EEB65C89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03635B-6632-42E3-B558-37D7DC074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C372F5-8BF0-44A5-8088-2760B7FB9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21AECE-3802-4779-ACC6-38DF36E77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71C248-766E-430B-B7D4-D9A9F93E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DC075B-9E68-4C1F-B6AF-FB277837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9D0F9-99BA-4146-BAD2-A16D7BE4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8F45C7-97F1-4E47-A633-8F372A85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D986C4-E31A-4239-887D-E0054DFF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806929-7225-4A88-9825-781C0D0B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42EFEE-B4B2-497E-BEF5-283D0594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EBD27E-DEF4-46FE-8A08-6E63B6A6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8F50DC-6347-465B-997B-27E583CC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EA8285-7009-4C1A-BA38-5CF86014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88773A-6353-4A01-A9AF-D389087EE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266B66-AE81-4F74-867D-F4444561A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829B92-BE06-4036-85E7-274FC0211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AC4B3-735C-4DBD-A961-B7D8DA396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FAD393-2C4B-4BE1-979E-61000E9F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FC66C5-CEB3-45E1-ACA5-C9BCC6AD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E834CA-B052-4715-9726-C2C507D8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6846B6-660C-42EB-848E-55570FD4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FF8D74-CF81-4F6C-852E-7D73F251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78C77C-E336-48D9-9BCF-520B6611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678167-6FA6-449E-9F85-CBA1DF15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8AE4DB-0D72-4265-9051-0F99C1D3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C58697-0FAC-47A0-8280-D83FC225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F0240B-E2AB-4CE3-BFDF-63A18E9B3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8140B-ACA1-43FB-9B35-E11B46136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14B12E-F2E7-414C-8392-9EF8E0438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A6AF70-50C5-42A2-98AA-EF8A7634F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D16C40-103D-4867-824B-ACD4F25A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821CEB-4316-4970-A315-5099EB8A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C25321-AB7E-415E-82AA-50644628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1D3532-D58E-442C-93F1-3C6C80A3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D0130B-8969-49C7-A180-5D682E4E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78214E-C7AF-4249-B736-A75211E7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09362F-A442-459D-B1D9-FF4780CA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73D42A-FA5F-4338-B430-9F1C8E44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F5089C-2CB0-4BAA-A5E6-235DC8CC72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ED1534-4BD4-49BB-AC64-840C3233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9783D7-2DCD-4DCB-9FAF-E107723DA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45FBF6-9198-4DF1-9A38-C835A5843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86FF51-0A1C-490A-8B09-3E07AC114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722701-D4A3-4192-AFFB-0D8D0EE6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DB85D2-DA26-4E6C-AE10-3BE853B4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49D6A3-2508-49CA-9D84-FE50124B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4AC334-EE74-4503-93E7-041E47CE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F98E71-5339-44E9-B859-823542E3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FC2085-6EBE-4CD4-A6F3-949D5325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C7ADC1-F287-4BAC-8B89-09A181A6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40659C-25D6-4FD8-B89B-74F08032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FBEEA6-9530-4F98-8B9F-CADA9576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9E76BC-4CEC-4FA1-8D92-BB561102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3B0E4D-767C-454E-9E85-AB1339434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BA9B29-E4A5-4DD7-A77A-E685F7DEC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E22B0B-BE8E-4F2F-A69D-E5EE852E0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C777A2-7F62-4E93-8A71-7CE92141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74F7F4-CB8F-4B8E-9437-0C3F21FA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329EAE-C82E-441E-95A6-15B4DC47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0FB64E-84A8-4393-843D-0754A08F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6741CB-33F8-45E1-8B3D-F0D397DE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278ACB-415C-4AB3-885F-AD86BF36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276A29-BE99-4FDB-94AE-1CCD86EA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97B157-1B91-4DC8-9581-FDAC5065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6F3FC3-FB50-4FDE-A7C9-7E560797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16685B-0D68-48AD-85CA-8C6A2CCE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2E5A0E-49C0-44E5-8FCE-30D966679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F29205-502B-46E4-A45F-6A4AB3EFD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D41C70-4B4C-433E-A6CB-001876D8D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6E4EC2-C10B-43DC-80B6-422066B6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51FC6E-2F04-44C9-94A0-60DDB864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776226-BCFB-4752-81C6-D631E828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505C9E-9711-40B2-9459-8D292573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F41C1F-650E-4232-AEBA-D87334F6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B772D2-4502-4190-BB51-2DFD090D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197A7E-7A7F-446D-9C15-8342A299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7C2737-FADC-4116-AFB7-5A102170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ED24DC-450C-4160-95EC-E3ACEBF2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EFC2FA-8EF5-4122-9BAF-C5CBA2E5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5B10CB-3EE5-49A2-A212-D3442D3DB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80D4E1-019A-4E2A-BFA6-DB06085E3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0EED09-745B-4F90-8938-002DD411C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79C90-F756-4379-8CC8-AD0383BB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04EEF9-ACC5-4DCD-A283-789B408A1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7F3567-E121-4E45-85F3-D99E4579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597589-FBA2-4403-9906-F3FE5FD3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8AFC05-9C91-4F2A-A25B-497BBB81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84A4DD-F8CD-4579-B74E-D8CF04B1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EA24B9-B05F-49AC-8477-DFAA547F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515162-E851-4295-AE9F-2C178270C7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95430-C531-445F-BF18-20D0669D80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B0231-4B84-4373-A6CD-CABDA529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371D0-BC19-4DA0-A792-135802F5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F5A6F-A300-4DBC-99A8-60F1DAB8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652B9-94FF-4B61-8B59-4697457B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A3F27-C97A-4B43-AB27-A436E84F9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8A659-AA50-4D3A-B0E7-AB3325B16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F126C-B63E-4D35-9D6F-ABC5E61D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5CEC9-DC7D-4647-94D0-8E43BED5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5872D-5EC8-4452-904F-338A78F1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8831E-9D83-4CF0-846F-2663F57B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00181-D140-4CEC-9FB3-41E2C6B7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C4660-16B0-428F-9785-A6BC9765E0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47F94C-0715-4F49-BF4C-42276A04AE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BB95F-658F-4B38-AC33-E9C50E0F9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5AE904-92A4-430F-8CFB-2D8FA604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7EE031-E778-464D-BC31-DA6141C1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0EE9FC-23ED-47F2-B56F-CB2C1716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02B680-9A9A-494B-912F-37416BAB5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F964D2-F82A-46B7-8904-50BD94BB8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D77E2C-CDCF-4B10-9648-41960FD7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FAA171-A7F6-439E-932D-633DDCE2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14E6E5-CAD1-4AA3-AA9D-14F4DFC7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9E39FE-BA05-4CD9-AA2A-A1DC602A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B851A9-E195-4EC3-8BAC-C8D9FA28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2E7B7-2F05-4CBA-B4BE-8E678D813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EAA045-89AE-4B4B-BF5B-02BBF1845C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9614B7-45CE-4766-8582-83461B7DB9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214278-AF05-48DA-939E-38450227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A5DC2C-5639-4D32-845B-5B132C66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76D664-8669-4035-BF0D-3D71286A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6FADB9-78C7-4FEF-A8F1-1F60322F8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9FFEAF-6266-439D-8758-58B2BA364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A651C1-98EC-4CC7-99CD-BD0B8988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A9290A-94D3-4557-B346-8D58AA5E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A6B244-1DB3-4361-A867-C9E4A491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21931-9632-465A-8A15-E61350B0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38B7F8-9706-4FCF-9D99-92837E3E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8393B7-6E83-4964-936A-FFD7587E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D061EF-1EE3-4ECA-B00F-850251AAA4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B0039-1D20-493D-8DEF-878E715464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ED670-A1E3-4E7E-BBAA-C70EF71F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E3937-C223-406C-BC08-7827C43E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2A714-877D-4D3C-A190-3C230827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6CBEA-CBB6-4390-B325-0A79F64DE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905EB-DB36-4B1D-A72D-EC63C691E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BDAE9-7589-4A28-997B-B5D6E391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FB98F-32D0-455B-9F38-CF37BD7C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7C578-8D5B-4912-9ECA-A6B262C2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727F4-7A3B-4C8C-B5C0-24CDA889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B1C3C-DF55-4CEC-8AFD-3A7F4DA7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AB552-FDAF-46B2-9483-93CB2A67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8807D-0248-425D-943B-BC447C9FDD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1C549C-0403-461F-B8BF-E14FB0FC3D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99C9E0-9C72-4EEA-B060-3E38A0A9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4AA3FE-A683-42C1-963E-1C18D4E3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9648EB-88CA-4134-AD3C-30874360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ADC0D9-F5D0-49D0-B3B4-BB2A1979A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EC632-8C55-4806-B5BA-8AF53031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07BDDC-7245-4263-AFF2-C486FC74D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04C3BD-7198-4199-9460-74BC377B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D6EDDC-EA1B-46C0-B85A-D434C981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37E99C-D6DC-4937-8BB5-479A08C8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653766-E5DA-474C-B239-8BB73315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EA16C0-757E-4209-89D3-5F2AF2A9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940201-775D-43C6-941E-8ADAC0CA6D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BE33CA-EB92-4F79-A36A-42B5621435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FEC588-4C1F-46CF-8ACC-DD04FCE3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57572B-FCA7-40CF-B78C-E1BC3FF8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DFA5-1930-4EE5-92F8-7E017C4621A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1E0F-3B27-48D5-990D-5B00F64C9A8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BA83-F48E-4251-8245-046A1E9B84A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B43E-95B2-41A5-96A4-D4AE97EE4AC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D8D2-E3DD-4631-9DB4-61DB48EBA1D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36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62A5-710B-48CB-A8A3-BF094A651830}" type="slidenum"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36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1224-30D6-4E8B-95E1-88329A699422}" type="slidenum"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36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1CC0-55FD-4583-B387-729D61E1562E}" type="slidenum"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36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BF41-5900-4119-A166-A74B3F85BB39}" type="slidenum"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36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AABC-6214-4D59-9426-31A9871FED40}" type="slidenum"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36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3B9B-8ABD-4046-AFD5-00BD82F31447}" type="slidenum"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36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A93A-7531-4DBB-A88F-92D059B0654E}" type="slidenum"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36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458B-76C0-4777-A93A-5FFDB4260AF6}" type="slidenum"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36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C19E-6817-4D32-BB55-C27538E6528F}" type="slidenum"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36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1033-1A11-4096-887A-FC226580C473}" type="slidenum"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36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FB20-3EC8-41A4-A99F-A949CE8772CE}" type="slidenum"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36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AA50-B5DC-4AAE-9FEE-3EC857E86180}" type="slidenum"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0F58-49F2-40C1-9D0C-80ADED3618F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C15E-51E5-4B29-9492-9F51BB97E3D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BD21-187E-446A-8432-45908D65774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E486-8F2A-470A-B6A6-6AAC4A8A195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6D4B-86D5-4537-AB9E-A22F7288DF2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47A6-74CF-4112-A120-08A8CE5805D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2752-BABE-4429-8FDA-CEAD7CB3D58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hyperlink" Target="http://www.baidu.com/s?wd=&#20061;&#23528;&#27807;&amp;hl_tag=textlink&amp;tn=SE_hldp01350_v6v6zkg6" TargetMode="External"/><Relationship Id="rId10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aike.baidu.com/view/51765.htm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baike.baidu.com/view/4150.htm" TargetMode="External"/><Relationship Id="rId3" Type="http://schemas.openxmlformats.org/officeDocument/2006/relationships/hyperlink" Target="http://baike.baidu.com/view/3742.htm" TargetMode="External"/><Relationship Id="rId4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四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514600" y="2703600"/>
            <a:ext cx="55872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52440" y="2647800"/>
            <a:ext cx="8445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认 识 平 方 千 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4929120" cy="360"/>
            <a:chOff x="2284560" y="2448000"/>
            <a:chExt cx="492912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492912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4929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382680" y="1744560"/>
            <a:ext cx="748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顷和平方千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09" name="Picture 2" descr="D:\我的文档-桌面-收藏夹\桌面\四川九寨沟.jpg"/>
          <p:cNvPicPr/>
          <p:nvPr/>
        </p:nvPicPr>
        <p:blipFill>
          <a:blip r:embed="rId8"/>
          <a:stretch/>
        </p:blipFill>
        <p:spPr>
          <a:xfrm>
            <a:off x="1857240" y="1143000"/>
            <a:ext cx="5000760" cy="3257640"/>
          </a:xfrm>
          <a:prstGeom prst="rect">
            <a:avLst/>
          </a:prstGeom>
          <a:ln w="0">
            <a:noFill/>
          </a:ln>
        </p:spPr>
      </p:pic>
      <p:sp>
        <p:nvSpPr>
          <p:cNvPr id="1010" name="矩形 8"/>
          <p:cNvSpPr/>
          <p:nvPr/>
        </p:nvSpPr>
        <p:spPr>
          <a:xfrm>
            <a:off x="285840" y="4581360"/>
            <a:ext cx="83898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28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9"/>
              </a:rPr>
              <a:t>九寨沟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景区面积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62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平方千米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现游览区面积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平方千米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21"/>
          <p:cNvSpPr/>
          <p:nvPr/>
        </p:nvSpPr>
        <p:spPr>
          <a:xfrm>
            <a:off x="990360" y="1126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创设情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矩形 4"/>
          <p:cNvSpPr/>
          <p:nvPr/>
        </p:nvSpPr>
        <p:spPr>
          <a:xfrm>
            <a:off x="1116000" y="4232160"/>
            <a:ext cx="61200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28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1"/>
              </a:rPr>
              <a:t>三峡水电站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总面积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084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平方千米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3" name="图片 14340" descr="1"/>
          <p:cNvPicPr/>
          <p:nvPr/>
        </p:nvPicPr>
        <p:blipFill>
          <a:blip r:embed="rId2"/>
          <a:stretch/>
        </p:blipFill>
        <p:spPr>
          <a:xfrm>
            <a:off x="1143000" y="1981080"/>
            <a:ext cx="6705720" cy="202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Picture 3" descr="D:\我的文档-桌面-收藏夹\桌面\水库.jpg"/>
          <p:cNvPicPr/>
          <p:nvPr/>
        </p:nvPicPr>
        <p:blipFill>
          <a:blip r:embed="rId1"/>
          <a:stretch/>
        </p:blipFill>
        <p:spPr>
          <a:xfrm>
            <a:off x="1643040" y="835200"/>
            <a:ext cx="5929200" cy="3243240"/>
          </a:xfrm>
          <a:prstGeom prst="rect">
            <a:avLst/>
          </a:prstGeom>
          <a:ln w="0">
            <a:noFill/>
          </a:ln>
        </p:spPr>
      </p:pic>
      <p:sp>
        <p:nvSpPr>
          <p:cNvPr id="1015" name="矩形 4"/>
          <p:cNvSpPr/>
          <p:nvPr/>
        </p:nvSpPr>
        <p:spPr>
          <a:xfrm>
            <a:off x="428760" y="4137120"/>
            <a:ext cx="853596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杭州西湖风景名胜区位于</a:t>
            </a:r>
            <a:r>
              <a:rPr b="0" lang="zh-CN" sz="28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2"/>
              </a:rPr>
              <a:t>浙江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省</a:t>
            </a:r>
            <a:r>
              <a:rPr b="0" lang="zh-CN" sz="28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3"/>
              </a:rPr>
              <a:t>杭州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市中心，景区内群山高度都不超过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0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米，景区总面积达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9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平方千米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其中湖面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6.5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平方千米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文本框 15363"/>
          <p:cNvSpPr/>
          <p:nvPr/>
        </p:nvSpPr>
        <p:spPr>
          <a:xfrm>
            <a:off x="1985400" y="5761080"/>
            <a:ext cx="3350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宋体"/>
              </a:rPr>
              <a:t>这些文字中都使用了什么面积单位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18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9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20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1" name="椭圆 4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2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3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4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5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6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7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28" name="Rectangle 2"/>
          <p:cNvSpPr/>
          <p:nvPr/>
        </p:nvSpPr>
        <p:spPr>
          <a:xfrm>
            <a:off x="923760" y="839880"/>
            <a:ext cx="4714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宋体"/>
              </a:rPr>
              <a:t>认识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宋体"/>
              </a:rPr>
              <a:t>平方千米的含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2"/>
          <p:cNvSpPr/>
          <p:nvPr/>
        </p:nvSpPr>
        <p:spPr>
          <a:xfrm>
            <a:off x="609480" y="3887640"/>
            <a:ext cx="7486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学生汇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预设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平方千米是边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千米的正方形的面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Rectangle 2"/>
          <p:cNvSpPr/>
          <p:nvPr/>
        </p:nvSpPr>
        <p:spPr>
          <a:xfrm>
            <a:off x="609480" y="4878360"/>
            <a:ext cx="632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讲解：边长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千米的正方形的面积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平方千米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2"/>
          <p:cNvSpPr/>
          <p:nvPr/>
        </p:nvSpPr>
        <p:spPr>
          <a:xfrm>
            <a:off x="609480" y="3201840"/>
            <a:ext cx="8143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平方千米究竟有多大呢？请你猜想一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2" name="组合 20489"/>
          <p:cNvGrpSpPr/>
          <p:nvPr/>
        </p:nvGrpSpPr>
        <p:grpSpPr>
          <a:xfrm>
            <a:off x="7221600" y="4292640"/>
            <a:ext cx="1442520" cy="1872720"/>
            <a:chOff x="7221600" y="4292640"/>
            <a:chExt cx="1442520" cy="1872720"/>
          </a:xfrm>
        </p:grpSpPr>
        <p:sp>
          <p:nvSpPr>
            <p:cNvPr id="1033" name="矩形 20490"/>
            <p:cNvSpPr/>
            <p:nvPr/>
          </p:nvSpPr>
          <p:spPr>
            <a:xfrm>
              <a:off x="7221600" y="4725720"/>
              <a:ext cx="1439640" cy="1439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文本框 20491"/>
            <p:cNvSpPr/>
            <p:nvPr/>
          </p:nvSpPr>
          <p:spPr>
            <a:xfrm>
              <a:off x="7561080" y="4292640"/>
              <a:ext cx="86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千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文本框 20492"/>
            <p:cNvSpPr/>
            <p:nvPr/>
          </p:nvSpPr>
          <p:spPr>
            <a:xfrm>
              <a:off x="7250040" y="5211720"/>
              <a:ext cx="141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平方千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6" name="Rectangle 21"/>
          <p:cNvSpPr/>
          <p:nvPr/>
        </p:nvSpPr>
        <p:spPr>
          <a:xfrm>
            <a:off x="1548720" y="1126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探究新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20494"/>
          <p:cNvSpPr/>
          <p:nvPr/>
        </p:nvSpPr>
        <p:spPr>
          <a:xfrm>
            <a:off x="2247840" y="1601640"/>
            <a:ext cx="3162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我国的面积约为</a:t>
            </a:r>
            <a:r>
              <a:rPr b="1" lang="zh-CN" sz="2400" spc="-1" strike="noStrike">
                <a:solidFill>
                  <a:srgbClr val="000000"/>
                </a:solidFill>
                <a:latin typeface="方正书宋简体"/>
                <a:ea typeface="方正书宋简体"/>
              </a:rPr>
              <a:t>960</a:t>
            </a:r>
            <a:r>
              <a:rPr b="1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万平方千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圆角矩形标注 20496"/>
          <p:cNvSpPr/>
          <p:nvPr/>
        </p:nvSpPr>
        <p:spPr>
          <a:xfrm>
            <a:off x="2093760" y="1601640"/>
            <a:ext cx="3354480" cy="914400"/>
          </a:xfrm>
          <a:prstGeom prst="wedgeRoundRectCallout">
            <a:avLst>
              <a:gd name="adj1" fmla="val 53550"/>
              <a:gd name="adj2" fmla="val 6857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Box 3"/>
          <p:cNvSpPr/>
          <p:nvPr/>
        </p:nvSpPr>
        <p:spPr>
          <a:xfrm>
            <a:off x="838080" y="5703840"/>
            <a:ext cx="61722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平方千米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=1000000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平方米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=100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公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0" name="图片 20498" descr="17"/>
          <p:cNvPicPr/>
          <p:nvPr/>
        </p:nvPicPr>
        <p:blipFill>
          <a:blip r:embed="rId8"/>
          <a:stretch/>
        </p:blipFill>
        <p:spPr>
          <a:xfrm>
            <a:off x="5497560" y="1449360"/>
            <a:ext cx="1512720" cy="1828800"/>
          </a:xfrm>
          <a:prstGeom prst="rect">
            <a:avLst/>
          </a:prstGeom>
          <a:ln w="0">
            <a:noFill/>
          </a:ln>
        </p:spPr>
      </p:pic>
      <p:sp>
        <p:nvSpPr>
          <p:cNvPr id="1041" name="八边形 7"/>
          <p:cNvSpPr/>
          <p:nvPr/>
        </p:nvSpPr>
        <p:spPr>
          <a:xfrm>
            <a:off x="374760" y="851040"/>
            <a:ext cx="52200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矩形 4"/>
          <p:cNvSpPr/>
          <p:nvPr/>
        </p:nvSpPr>
        <p:spPr>
          <a:xfrm>
            <a:off x="0" y="3735360"/>
            <a:ext cx="900108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  <a:ea typeface="宋体"/>
              </a:rPr>
              <a:t>天安门广场同学们都熟悉，它的南北长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880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  <a:ea typeface="宋体"/>
              </a:rPr>
              <a:t>米，东西宽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550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  <a:ea typeface="宋体"/>
              </a:rPr>
              <a:t>米，总面积达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44</a:t>
            </a:r>
            <a:r>
              <a:rPr b="1" lang="zh-CN" sz="2600" spc="-1" strike="noStrike">
                <a:solidFill>
                  <a:srgbClr val="ff0000"/>
                </a:solidFill>
                <a:latin typeface="Calibri"/>
                <a:ea typeface="宋体"/>
              </a:rPr>
              <a:t>万平方米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  <a:ea typeface="宋体"/>
              </a:rPr>
              <a:t>，可同时容纳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  <a:ea typeface="宋体"/>
              </a:rPr>
              <a:t>万人集会，是目前世界上最大的城市广场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  <a:ea typeface="宋体"/>
              </a:rPr>
              <a:t>平方千米比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  <a:ea typeface="宋体"/>
              </a:rPr>
              <a:t>个天安门广场还要大一些，想像一下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  <a:ea typeface="宋体"/>
              </a:rPr>
              <a:t>平方千米有多大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3" name="图片 16387" descr="2"/>
          <p:cNvPicPr/>
          <p:nvPr/>
        </p:nvPicPr>
        <p:blipFill>
          <a:blip r:embed="rId1"/>
          <a:stretch/>
        </p:blipFill>
        <p:spPr>
          <a:xfrm>
            <a:off x="1752480" y="684360"/>
            <a:ext cx="5639040" cy="30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45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6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47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8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9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55" name="Rectangle 2"/>
          <p:cNvSpPr/>
          <p:nvPr/>
        </p:nvSpPr>
        <p:spPr>
          <a:xfrm>
            <a:off x="468360" y="843120"/>
            <a:ext cx="82947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   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鸟巢”的占地面积约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公顷，（      ）个“鸟巢”的占地面积约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平方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64"/>
          <p:cNvSpPr/>
          <p:nvPr/>
        </p:nvSpPr>
        <p:spPr>
          <a:xfrm>
            <a:off x="379440" y="206280"/>
            <a:ext cx="280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文本框 21510"/>
          <p:cNvSpPr/>
          <p:nvPr/>
        </p:nvSpPr>
        <p:spPr>
          <a:xfrm>
            <a:off x="7162920" y="9032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文本框 1"/>
          <p:cNvSpPr/>
          <p:nvPr/>
        </p:nvSpPr>
        <p:spPr>
          <a:xfrm>
            <a:off x="907920" y="2247840"/>
            <a:ext cx="642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下面的括号里填上合适的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平方千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               ）公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公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                ）平方千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平方千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                 ）平方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公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                 ）平方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00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平方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                 ）平方千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平方千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                  ） 平方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文本框 2"/>
          <p:cNvSpPr/>
          <p:nvPr/>
        </p:nvSpPr>
        <p:spPr>
          <a:xfrm>
            <a:off x="3511440" y="2963880"/>
            <a:ext cx="10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文本框 3"/>
          <p:cNvSpPr/>
          <p:nvPr/>
        </p:nvSpPr>
        <p:spPr>
          <a:xfrm>
            <a:off x="3390840" y="3522600"/>
            <a:ext cx="10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文本框 4"/>
          <p:cNvSpPr/>
          <p:nvPr/>
        </p:nvSpPr>
        <p:spPr>
          <a:xfrm>
            <a:off x="3305160" y="4049640"/>
            <a:ext cx="18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文本框 6"/>
          <p:cNvSpPr/>
          <p:nvPr/>
        </p:nvSpPr>
        <p:spPr>
          <a:xfrm>
            <a:off x="2889360" y="4592520"/>
            <a:ext cx="18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文本框 7"/>
          <p:cNvSpPr/>
          <p:nvPr/>
        </p:nvSpPr>
        <p:spPr>
          <a:xfrm>
            <a:off x="4416480" y="5156280"/>
            <a:ext cx="18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文本框 8"/>
          <p:cNvSpPr/>
          <p:nvPr/>
        </p:nvSpPr>
        <p:spPr>
          <a:xfrm>
            <a:off x="3281400" y="5697360"/>
            <a:ext cx="18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文本框 99"/>
          <p:cNvSpPr/>
          <p:nvPr/>
        </p:nvSpPr>
        <p:spPr>
          <a:xfrm>
            <a:off x="293760" y="682560"/>
            <a:ext cx="841356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填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边长是（     ）米的正方形，面积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方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边长是（     ）米的正方形，面积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公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边长是（     ）米的正方形，面积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方千米，也就是（     ）公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方米、公顷、平方千米都是（     ）单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. 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公顷＝（      ）平方米＝（         ）平方分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＝（           ）平方厘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文本框 1"/>
          <p:cNvSpPr/>
          <p:nvPr/>
        </p:nvSpPr>
        <p:spPr>
          <a:xfrm>
            <a:off x="2494080" y="149544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文本框 2"/>
          <p:cNvSpPr/>
          <p:nvPr/>
        </p:nvSpPr>
        <p:spPr>
          <a:xfrm>
            <a:off x="2338560" y="2050920"/>
            <a:ext cx="6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文本框 3"/>
          <p:cNvSpPr/>
          <p:nvPr/>
        </p:nvSpPr>
        <p:spPr>
          <a:xfrm>
            <a:off x="2249640" y="2585880"/>
            <a:ext cx="8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文本框 4"/>
          <p:cNvSpPr/>
          <p:nvPr/>
        </p:nvSpPr>
        <p:spPr>
          <a:xfrm>
            <a:off x="1030320" y="3141720"/>
            <a:ext cx="82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文本框 6"/>
          <p:cNvSpPr/>
          <p:nvPr/>
        </p:nvSpPr>
        <p:spPr>
          <a:xfrm>
            <a:off x="5386320" y="3693960"/>
            <a:ext cx="82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面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文本框 7"/>
          <p:cNvSpPr/>
          <p:nvPr/>
        </p:nvSpPr>
        <p:spPr>
          <a:xfrm>
            <a:off x="2644920" y="4248000"/>
            <a:ext cx="92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文本框 8"/>
          <p:cNvSpPr/>
          <p:nvPr/>
        </p:nvSpPr>
        <p:spPr>
          <a:xfrm>
            <a:off x="5460840" y="4248000"/>
            <a:ext cx="130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0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文本框 9"/>
          <p:cNvSpPr/>
          <p:nvPr/>
        </p:nvSpPr>
        <p:spPr>
          <a:xfrm>
            <a:off x="2793960" y="4789440"/>
            <a:ext cx="15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000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75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6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77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8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9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85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四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Box 32"/>
          <p:cNvSpPr/>
          <p:nvPr/>
        </p:nvSpPr>
        <p:spPr>
          <a:xfrm>
            <a:off x="425520" y="1320840"/>
            <a:ext cx="844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测算和计算大面积的土地，通常用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平方千米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作单位，边长为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0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米的正方形土地，面积是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平方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平方千米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100000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平方米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10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公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9T01:40:29Z</dcterms:created>
  <dc:creator/>
  <dc:description/>
  <dc:language>en-US</dc:language>
  <cp:lastModifiedBy>万润仪器贸易公司</cp:lastModifiedBy>
  <dcterms:modified xsi:type="dcterms:W3CDTF">2020-08-21T08:53:26Z</dcterms:modified>
  <cp:revision>4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